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531B-8322-4EBE-8B9B-8A34C6030D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4F5C-B13B-4D01-8BCF-5A87E8C6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7B07-CB84-4A32-8E16-1BC51F61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6234-8F33-4C2E-8F24-406E74FB6E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3718-DDCD-433E-B13E-E2A65BD0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F25E-45F1-4F51-9456-83C32364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E391-0554-4A43-B433-22D49C81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0DA8-4B15-4C04-9DAF-3795B9F5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2C91-438D-468F-B49A-C43F4B87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981A-8B4E-486E-93C2-C952B429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6F4E-11E9-4B86-8F2C-800FA348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301F7-3EBB-4C08-A905-A75E8B12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848B-8143-4114-852A-C4F4CB9346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言语治疗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30072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王海丽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手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言语障碍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针对性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言语治疗的原则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评定设定训练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订科学的训练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及时强化与反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言语康复的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者对言语障碍的认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医患关系直接影响言语的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心理状况和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8600" y="1413000"/>
            <a:ext cx="8610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统方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听理解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语表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阅读理解及朗读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书写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8360" y="1371600"/>
            <a:ext cx="80866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用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性交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15640" y="137124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构音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舌唇运动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音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言语速度和辨音的训练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吞咽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治疗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把食物引入口，加强吞咽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取食物的顺序一般是软食、半固体、固体、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吞咽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4-27T07:24:31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